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BE74-DCBA-480B-8DEC-518BF4ED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41C-65B0-4446-8442-756D0A1E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6D95-84CF-4045-8239-8D781F19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83E-FFFE-4F4D-9FF7-9EB9DBD0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3804-5623-45EE-A979-82CB06C5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7358-2550-4B5B-9B5C-C0ACCECF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2965-5269-4C53-AF8A-7739471F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A1A-C20F-46AA-BE74-30D1D740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D24A-2F64-4D99-86FC-1D1A251C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5C1-3FF3-4C54-AD84-D6EE6D7F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260-D77B-43F1-A6A3-BCDE08A8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A45-A3D0-498C-92B9-225135E8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A321-86E9-46D4-9499-D35CDA842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iki.wildberries.ru/wp-content/gallery/z_1236555nike/st_5428_10b.jpg"/>
          <p:cNvPicPr/>
          <p:nvPr/>
        </p:nvPicPr>
        <p:blipFill>
          <a:blip r:embed="rId2"/>
          <a:stretch/>
        </p:blipFill>
        <p:spPr>
          <a:xfrm>
            <a:off x="285840" y="2500200"/>
            <a:ext cx="8451720" cy="400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" name="WordArt 2"/>
          <p:cNvSpPr txBox="1"/>
          <p:nvPr/>
        </p:nvSpPr>
        <p:spPr>
          <a:xfrm>
            <a:off x="357120" y="214200"/>
            <a:ext cx="8143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то придумал обувь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285840" y="285840"/>
            <a:ext cx="86439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ля того чтобы защитить ноги, им были нужны ботинки, служившие достаточно долгое время. Со временем кожаные ботинки необычайной красоты появились во Франции, Италии и Англ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http://photo.qip.ru/photo/bluts/3691153/82908766.jpg"/>
          <p:cNvPicPr/>
          <p:nvPr/>
        </p:nvPicPr>
        <p:blipFill>
          <a:blip r:embed="rId2"/>
          <a:stretch/>
        </p:blipFill>
        <p:spPr>
          <a:xfrm>
            <a:off x="1785960" y="2286000"/>
            <a:ext cx="514656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copypast.ru/uploads/posts/1206649643_image00001.jpg"/>
          <p:cNvPicPr/>
          <p:nvPr/>
        </p:nvPicPr>
        <p:blipFill>
          <a:blip r:embed="rId2"/>
          <a:stretch/>
        </p:blipFill>
        <p:spPr>
          <a:xfrm>
            <a:off x="1000080" y="285840"/>
            <a:ext cx="7215120" cy="610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357120" y="285840"/>
            <a:ext cx="835812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апризы моды очень влияли на форму обуви. Например, во времена английского короля Джеймса I люди из высшего общества стали носить обувь из очень тонкой кожи на высоких каблуках. В них было неудобно ходить, но люди продолжали их нос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ttp://footwear1.ru/img/Footwear_high_heel_3.jpg"/>
          <p:cNvPicPr/>
          <p:nvPr/>
        </p:nvPicPr>
        <p:blipFill>
          <a:blip r:embed="rId2"/>
          <a:stretch/>
        </p:blipFill>
        <p:spPr>
          <a:xfrm>
            <a:off x="285840" y="3143160"/>
            <a:ext cx="2714400" cy="340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Picture 6" descr="http://go3.imgsmail.ru/imgpreview?key=http%3A//www.only.ee/uploads/posts/2010-03/1269701488%5F8.jpg&amp;mb=imgdb_preview_258"/>
          <p:cNvPicPr/>
          <p:nvPr/>
        </p:nvPicPr>
        <p:blipFill>
          <a:blip r:embed="rId3"/>
          <a:stretch/>
        </p:blipFill>
        <p:spPr>
          <a:xfrm>
            <a:off x="5786280" y="3429000"/>
            <a:ext cx="3029040" cy="30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Picture 8" descr="http://go4.imgsmail.ru/imgpreview?key=http%3A//www.only.ee/uploads/posts/2010-03/thumbs/1269427663%5F12.jpg&amp;mb=imgdb_preview_258&amp;w=184"/>
          <p:cNvPicPr/>
          <p:nvPr/>
        </p:nvPicPr>
        <p:blipFill>
          <a:blip r:embed="rId4"/>
          <a:stretch/>
        </p:blipFill>
        <p:spPr>
          <a:xfrm>
            <a:off x="3193920" y="2428920"/>
            <a:ext cx="223524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.respectfulbear.com/eimg2/030710/shoes_1.jpg"/>
          <p:cNvPicPr/>
          <p:nvPr/>
        </p:nvPicPr>
        <p:blipFill>
          <a:blip r:embed="rId2"/>
          <a:stretch/>
        </p:blipFill>
        <p:spPr>
          <a:xfrm>
            <a:off x="714240" y="285840"/>
            <a:ext cx="7882200" cy="6261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285840" y="285840"/>
            <a:ext cx="84294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А до того, как появилась обувь на высоких каблуках, в моде были узкие ботинки с длинными, до 12 или 15 см, носками, загнутыми кверх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http://fashiony.ru/pic/history/pic/16485/6.jpg"/>
          <p:cNvPicPr/>
          <p:nvPr/>
        </p:nvPicPr>
        <p:blipFill>
          <a:blip r:embed="rId2"/>
          <a:stretch/>
        </p:blipFill>
        <p:spPr>
          <a:xfrm>
            <a:off x="428760" y="1785960"/>
            <a:ext cx="4019400" cy="24289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500040" y="5715000"/>
            <a:ext cx="3429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ороль Генри II ввел в моду длинные н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http://goodwoman.ru/wp-content/uploads/2012/02/clip_image0071.jpg"/>
          <p:cNvPicPr/>
          <p:nvPr/>
        </p:nvPicPr>
        <p:blipFill>
          <a:blip r:embed="rId3"/>
          <a:stretch/>
        </p:blipFill>
        <p:spPr>
          <a:xfrm>
            <a:off x="4643280" y="1714680"/>
            <a:ext cx="3643560" cy="485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Picture 10" descr="http://historyfootwear.ru/images/parig2.gif"/>
          <p:cNvPicPr/>
          <p:nvPr/>
        </p:nvPicPr>
        <p:blipFill>
          <a:blip r:embed="rId4"/>
          <a:stretch/>
        </p:blipFill>
        <p:spPr>
          <a:xfrm>
            <a:off x="1214280" y="4357800"/>
            <a:ext cx="1981440" cy="117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500040" y="357120"/>
            <a:ext cx="81439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в Соединенных Штатах искусство шить обувь появилось с 1629 году, когда по контракту туда приехал Томас Бирд, чтобы выпускать ботинки для колонии пилигри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http://wiki.wildberries.ru/wp-content/gallery/z_1236555nike/st_5428_15b.jpg"/>
          <p:cNvPicPr/>
          <p:nvPr/>
        </p:nvPicPr>
        <p:blipFill>
          <a:blip r:embed="rId2"/>
          <a:stretch/>
        </p:blipFill>
        <p:spPr>
          <a:xfrm>
            <a:off x="1000080" y="2000160"/>
            <a:ext cx="6853320" cy="4286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719720" y="285840"/>
            <a:ext cx="45424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уачеро - мексиканский бот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img-fotki.yandex.ru/get/5805/istem84.14/0_63b4e_62c4caa3_XL"/>
          <p:cNvPicPr/>
          <p:nvPr/>
        </p:nvPicPr>
        <p:blipFill>
          <a:blip r:embed="rId2"/>
          <a:stretch/>
        </p:blipFill>
        <p:spPr>
          <a:xfrm>
            <a:off x="711360" y="1428840"/>
            <a:ext cx="7407000" cy="492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http://www.izuminki.com/images/malenkoe-chyornoe-plate/8.jpg"/>
          <p:cNvPicPr/>
          <p:nvPr/>
        </p:nvPicPr>
        <p:blipFill>
          <a:blip r:embed="rId2"/>
          <a:stretch/>
        </p:blipFill>
        <p:spPr>
          <a:xfrm>
            <a:off x="2071800" y="214200"/>
            <a:ext cx="4684680" cy="6286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2203920" y="4714920"/>
            <a:ext cx="539604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Ресурсы интерне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ttp://potomy.ru/things/51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формление: Елены Берюх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айт: «Школа АБВ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ttp://shkola-abv.ru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2"/>
          <p:cNvSpPr txBox="1"/>
          <p:nvPr/>
        </p:nvSpPr>
        <p:spPr>
          <a:xfrm>
            <a:off x="2857680" y="428760"/>
            <a:ext cx="366840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ец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500040" y="214200"/>
            <a:ext cx="821520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огда древнему человеку приходилось преодолевать острые камни, он понял, что ему нужно что-то надевать на ноги, чтобы защитить их. Поэтому первая обувь, которую он изобрел (возможно, это были сандалии) была сделана из травы, полосок кожи или плоских кусочков дерева. Человек прикреплял их к подошвам ног бечевкой, а концы заматывал вокруг лоды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http://zooclub.ru/attach/fotogal/clip/humor/47.jpg"/>
          <p:cNvPicPr/>
          <p:nvPr/>
        </p:nvPicPr>
        <p:blipFill>
          <a:blip r:embed="rId2"/>
          <a:stretch/>
        </p:blipFill>
        <p:spPr>
          <a:xfrm>
            <a:off x="1000080" y="3071880"/>
            <a:ext cx="3429000" cy="35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" name="Picture 6" descr="http://bizslovo.org/content/images/stories/torop/istoriya/lyudy-i-mamonty/stoyanka-pervisnyh-myslyvciv.jpg"/>
          <p:cNvPicPr/>
          <p:nvPr/>
        </p:nvPicPr>
        <p:blipFill>
          <a:blip r:embed="rId3"/>
          <a:stretch/>
        </p:blipFill>
        <p:spPr>
          <a:xfrm>
            <a:off x="5000760" y="3133800"/>
            <a:ext cx="2643120" cy="34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571680" y="214200"/>
            <a:ext cx="82864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онечно, в холодных странах сандалии не защищали ноги от мороза, поэтому к ним прикрепляли другие материалы: сандалии превратились в боти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http://www.izuminki.com/images/istoriya-obuvi-so-srednix-vekov-do-xix-veka/1.jpg"/>
          <p:cNvPicPr/>
          <p:nvPr/>
        </p:nvPicPr>
        <p:blipFill>
          <a:blip r:embed="rId2"/>
          <a:stretch/>
        </p:blipFill>
        <p:spPr>
          <a:xfrm>
            <a:off x="571680" y="2500200"/>
            <a:ext cx="8159400" cy="393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500040" y="357120"/>
            <a:ext cx="800100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ервыми, кто начал широко использовать ботинки, были египтяне. Подошву делали из кожи или папируса, которые привязывали к ступне двумя ремнями. Чтобы защитить большой палец, носок ботинка загибали кверх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ttp://history-ryazan.ru/system/files/images/user_images/u1/docs2/poskrebi6.jpg"/>
          <p:cNvPicPr/>
          <p:nvPr/>
        </p:nvPicPr>
        <p:blipFill>
          <a:blip r:embed="rId2"/>
          <a:stretch/>
        </p:blipFill>
        <p:spPr>
          <a:xfrm>
            <a:off x="642960" y="2189160"/>
            <a:ext cx="3143160" cy="430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whitedress.ru/club/images/users/26/50043.jpg"/>
          <p:cNvPicPr/>
          <p:nvPr/>
        </p:nvPicPr>
        <p:blipFill>
          <a:blip r:embed="rId3"/>
          <a:stretch/>
        </p:blipFill>
        <p:spPr>
          <a:xfrm>
            <a:off x="4929120" y="2214720"/>
            <a:ext cx="2327400" cy="423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40952239_YEtruski_2.jpg"/>
          <p:cNvPicPr/>
          <p:nvPr/>
        </p:nvPicPr>
        <p:blipFill>
          <a:blip r:embed="rId2"/>
          <a:stretch/>
        </p:blipFill>
        <p:spPr>
          <a:xfrm>
            <a:off x="357120" y="785880"/>
            <a:ext cx="4305240" cy="571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Picture 4" descr="http://www.whitedress.ru/club/images/users/26/94773_Ind1.jpg"/>
          <p:cNvPicPr/>
          <p:nvPr/>
        </p:nvPicPr>
        <p:blipFill>
          <a:blip r:embed="rId3"/>
          <a:stretch/>
        </p:blipFill>
        <p:spPr>
          <a:xfrm>
            <a:off x="5286240" y="3571920"/>
            <a:ext cx="3143520" cy="285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Picture 6" descr="http://www.whitedress.ru/club/images/users/26/egypt.jpg"/>
          <p:cNvPicPr/>
          <p:nvPr/>
        </p:nvPicPr>
        <p:blipFill>
          <a:blip r:embed="rId4"/>
          <a:stretch/>
        </p:blipFill>
        <p:spPr>
          <a:xfrm>
            <a:off x="5072040" y="357120"/>
            <a:ext cx="3571920" cy="266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85840" y="214200"/>
            <a:ext cx="857232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имляне пошли еще дальше и изобрели босоножки. У них были щели по бокал и ремешки, завязанные в центре. Существовали разные босоножки, которые разрешалось носить только людям из определенного сосло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http://www.xlegio.ru/netcat_files/Image/Library/shooes.gif"/>
          <p:cNvPicPr/>
          <p:nvPr/>
        </p:nvPicPr>
        <p:blipFill>
          <a:blip r:embed="rId2"/>
          <a:stretch/>
        </p:blipFill>
        <p:spPr>
          <a:xfrm>
            <a:off x="642960" y="2143080"/>
            <a:ext cx="4143240" cy="414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" name="Picture 6" descr="http://fashionstime.ru/wp-content/uploads/2012/05/mod41_1_2.jpg"/>
          <p:cNvPicPr/>
          <p:nvPr/>
        </p:nvPicPr>
        <p:blipFill>
          <a:blip r:embed="rId3"/>
          <a:stretch/>
        </p:blipFill>
        <p:spPr>
          <a:xfrm>
            <a:off x="5857920" y="2214720"/>
            <a:ext cx="2214360" cy="413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357120" y="285840"/>
            <a:ext cx="850104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более холодных странах независимо друг от друга люди начали создавать теплую обувь. Иногда они носили мешочки, подбитые травой и привязанные к ноге. Со временем эскимосы и индейцы изобрели на их основе мокас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http://pochemuha.ru/wp-content/uploads/2010/12/eskimos.jpeg"/>
          <p:cNvPicPr/>
          <p:nvPr/>
        </p:nvPicPr>
        <p:blipFill>
          <a:blip r:embed="rId2"/>
          <a:stretch/>
        </p:blipFill>
        <p:spPr>
          <a:xfrm>
            <a:off x="5572080" y="2103480"/>
            <a:ext cx="2881440" cy="434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Picture 8" descr="http://footwear.ua/images/content/image/news/kisy_shoes1.jpg"/>
          <p:cNvPicPr/>
          <p:nvPr/>
        </p:nvPicPr>
        <p:blipFill>
          <a:blip r:embed="rId3"/>
          <a:stretch/>
        </p:blipFill>
        <p:spPr>
          <a:xfrm>
            <a:off x="428760" y="2143080"/>
            <a:ext cx="4286160" cy="4362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428760" y="214200"/>
            <a:ext cx="81439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степенно сандалии стали превращаться в туфли, которые украшались драгоценными камнями, и изготавливались из дорогих матери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fashiony.ru/pic/history/pic/16485/5.jpg"/>
          <p:cNvPicPr/>
          <p:nvPr/>
        </p:nvPicPr>
        <p:blipFill>
          <a:blip r:embed="rId2"/>
          <a:stretch/>
        </p:blipFill>
        <p:spPr>
          <a:xfrm>
            <a:off x="1714680" y="1714680"/>
            <a:ext cx="5438520" cy="487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428760" y="285840"/>
            <a:ext cx="83581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А обувь, напоминающую современную, изобрели крестоносцы, ходившие в длительные пох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ttp://swordmaster.org/uploads/2008/donsk/crusades_kneht.jpg"/>
          <p:cNvPicPr/>
          <p:nvPr/>
        </p:nvPicPr>
        <p:blipFill>
          <a:blip r:embed="rId2"/>
          <a:stretch/>
        </p:blipFill>
        <p:spPr>
          <a:xfrm>
            <a:off x="2571840" y="1214280"/>
            <a:ext cx="3941640" cy="542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15:46:27Z</dcterms:created>
  <dc:creator>Helen</dc:creator>
  <dc:description/>
  <dc:language>en-US</dc:language>
  <cp:lastModifiedBy>Boris</cp:lastModifiedBy>
  <dcterms:modified xsi:type="dcterms:W3CDTF">2013-04-26T14:10:55Z</dcterms:modified>
  <cp:revision>8</cp:revision>
  <dc:subject/>
  <dc:title>Слайд 1</dc:title>
</cp:coreProperties>
</file>